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5D8E-4F4D-4BBB-B013-0FDCE436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5355-C32C-424F-9CD4-CA858B79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09C6-C324-493B-9E6B-0DDB4380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82E2-A8FD-47D4-BC76-29A620F5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D47-1139-4AB1-8705-BD80A29B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577B-FACA-4F84-8392-243431CE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F633-0142-45EB-BDDB-B3F62E79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2CA1-6785-4678-A09A-99C7C33D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B725-446A-426A-A368-098B93AD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0EAC-25E3-411D-AEFE-BDD38809D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4A29-2ACE-471F-828A-53460B6B6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061C-DCFD-467E-9D89-FED937A3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AF2D-CAA4-46FD-97E6-3927CE75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EE3-C282-46F4-90E8-F94A6805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993-F94D-48DA-ADE2-5180D8E1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965-5AF5-48E2-A9BB-D4C09550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A2E-7282-44DE-A6AA-EFF1EABA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385-EFB0-47D1-8C88-2CACB0DE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708E-2618-4A53-B30F-4166075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A6EC-46F3-48E7-885C-EB65CA1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58B-4C31-4E55-AD67-0AFC689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5B4C-02FF-44CF-9A28-21D3572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D71F-F706-4464-B567-BB994E9F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CDDC-5120-4107-A225-4F193FD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F5F-B258-4EAE-9BAA-A16B1E3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E4E-FAF1-4E81-B818-202027DC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F18-EFB6-45AF-B716-6A89315C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33A-96EE-4332-A2C3-6357CDE2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9B50-FC44-45A4-9944-C939A6D6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F74B-5B76-4074-A9E7-93E358E9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1E0-BDE6-490F-806A-D8EF9429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944B-ED2A-4951-8B3A-34872DB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3B6-E39B-4555-B98E-E7E1B7AC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7C9-61B0-4E30-9390-4F066A6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F75-D639-43BC-B075-F9581E2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377-D47E-4FC6-8974-E0EC4A9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239-2B0F-4795-8A09-8DCCEB2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A46-B166-4B97-9838-CA32D6C66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F22-5145-4271-A827-BDBBC0836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development.wikispaces.com/Unit+9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47960" y="228600"/>
            <a:ext cx="426708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114 Unit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4640" y="2819520"/>
            <a:ext cx="2438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lcome! Our seminar will begin at 8: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F542-85B4-4634-87F9-0FA81745DD2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eld Trip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our clas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ick on Uni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the video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aget’s Preoperational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was interesting about the reaction of the chi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lick on the artic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gnitive Development in the PreSchool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hat are some implications for us as we design educational environments for this children as we think about the 6 critical concepts mentioned in the arti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rticle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gnitive Develop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bottom of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Would this information be useful to parents? How might you share with th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0CB7-1781-4E3D-9AAA-6805961C8F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honemic awareness:  individual sounds are used to creat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honemes:  children can be taught to listen for sounds in words and that words are made up of the smallest parts of sou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honics:  understanding relationships between sound and written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U.S. Department of Education, 2007)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A1CF-D0E6-469C-9A73-B5D789609C9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s make wor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hildren need to be taught the sounds individual printed letters and groups of letters m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Knowing the relationships between letters and sounds helps children to recognize familiar words accurately and automatically, and “decode” new wo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U.S. Department of Education, 2007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5D03-03BF-480D-BA85-6A5D43FC99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 and 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Vocabulary development:  teach children the meaning of words and how they are pronounced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uild on the child’s understanding of the written or spoken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each children how to use the words that they kno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mprehension strategies: teach children to remember what they have read or heard read to the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U.S. Department of Education, 2007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2783-DC55-41FF-AB12-16B52AC4A5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iaget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Hands-on, concrete objects, and sensorimot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Vygotsky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Zone of Proxim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Gardner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 Multipl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Erikson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:  Stages of Development.  Our 4 and five year olds are in the initiative versus guilt stage.  Positive interactions help to develop good self-esteem in the child of this age.  Negative ones give the child a distorted picture of him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(Black &amp; Puckett, 200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ABF-DF1F-4065-A562-E83645565F5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520" y="2514600"/>
            <a:ext cx="3962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time is about over for tonight. I have enjoyed our time together and hope that you have a great wee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1BA-00A3-44A5-86C3-BF6608951F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39174637_thm.jpg"/>
          <p:cNvPicPr/>
          <p:nvPr/>
        </p:nvPicPr>
        <p:blipFill>
          <a:blip r:embed="rId1"/>
          <a:stretch/>
        </p:blipFill>
        <p:spPr>
          <a:xfrm>
            <a:off x="4572000" y="2209680"/>
            <a:ext cx="390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Black, J.K., &amp; Puckett, M.P., (2005).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young child: Development from prebirth through age eight.  Fourth Edition.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  Upper Saddle River, NJ:  Pearson Education, I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Jupiter Images Corporation, (2007). 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Clipart.com.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etrieved August 28, 2007 from website: http://www.clipa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Lightenberg, B.K., &amp; Troutman, A.,  (1995). 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Mathematics a good beginning: strategies for teaching children.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Pacific Grove, CA: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Brooks Cole Publishing Compa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U.S. Department of Education (2007).  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Educational Partnerships and Family Involvement Unit. 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etrieved August 23, 2007 from website:</a:t>
            </a: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  ed.gov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1B1-B1F1-4125-BD75-22D512F27C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night’s Qu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1371240"/>
            <a:ext cx="5486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iscover more about a person in an hour of play than in a year of conversatio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5939-0A06-4A6F-987D-8D648E9FE5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ject deadline – November 23 (end of Unit 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 fo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Unit 9 and watch Project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to seminar –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3B55-F0B2-41EE-8A3B-EF1A39EE524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296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ersity and Individual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Encourage positive self-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ovide opportunities for discovery of cultural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omote social skills including perspective taking, communicating, and conflict re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each lessons using multi-cultural curricul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(Black &amp; Puckett, 2005, p. 366).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E68F-EF27-4AF6-BC8E-81C4432785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en’s Pattern of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nlooker play:  the child observes others play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litary play: the child participates in a different activity without the involvement of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(Black &amp; Puckett, 2005, p. 367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B244-9909-4C52-B5C2-6AE7074A5B2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102960"/>
            <a:ext cx="73152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Play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arallel play: the child plays in a like activity without the involvement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ssociative play:  the child plays, talks about the activity, but does not allow other play goals to override his go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(Black &amp; Puckett, 2005, p. 36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FB3-E028-41DC-B41A-10CA36CC13A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33376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y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ooperative play: the child plays, cooperates, and works out assigned role in mutual agreement with other children concerning shared goals and the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188B-C722-4E05-8E6A-EFC2DB1B20D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746440" y="586728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lack &amp; Puckett, 2005, p. 367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02960"/>
            <a:ext cx="73152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play in Language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ociodramatic play:  the child’s attempt to integrate social knowledge into role play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crete objects are significant props in play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etacommunication: the child uses his or her cognitive skills to plan, reconstruct, and talk about play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(Black &amp; Puckett, 2005, p. 406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F5DC-DA4C-4677-BD81-BA399169BA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10296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Pre-number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evelop pre-number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iscovering relationships between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servation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ore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umbers hav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unting (Lightenberg &amp; Troutman, 1995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7816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3819-8ADD-48EA-AEBB-331A36A2705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9:16:54Z</dcterms:created>
  <dc:creator>Verlinda Ruble</dc:creator>
  <dc:description/>
  <dc:language>en-US</dc:language>
  <cp:lastModifiedBy>Joyce Jones</cp:lastModifiedBy>
  <dcterms:modified xsi:type="dcterms:W3CDTF">2010-11-11T17:47:26Z</dcterms:modified>
  <cp:revision>37</cp:revision>
  <dc:subject/>
  <dc:title>Slide 1</dc:title>
</cp:coreProperties>
</file>